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04C-5C71-48B0-9811-72227CF9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C72-C51B-4EBD-A251-FAA4DDA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35C-2139-4FD0-A45A-E36DDC6F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5CF-5B4D-490C-BFF7-4690FC98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D3B-A1E2-4826-9353-28273149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38A4-AAD7-4B80-9E77-BB5BE5A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F1D-7149-4548-ABF2-161FA18B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009-F70A-4634-AF9F-72C4AE5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710-3A10-4BC4-9911-159D773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425A-BDF2-498F-A2FF-C9E2CE2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C06E-736A-4765-914F-888B629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781-CBBE-446A-911E-0E90F61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38E1-7C4A-44DC-8F4A-33EA5B3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44E-FEAF-4A43-A733-545D3A6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A57-00CD-4003-9F47-FA4FE2B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909E-4504-4ABF-8B00-F538CC85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5093-41F5-4F4A-BF6C-A38CDB94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3D3-0733-4596-B9EF-7A85285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935-4517-432C-A7D3-D00E32D3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50C-B76A-4507-A525-6E3020F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5DE-0214-4D0C-B543-66C87CD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04F-7EA0-422F-A797-4A963CA1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A00-0F17-47E7-BEE8-9E48D397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502-4AF4-4C69-B0D3-7D1BDEA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937-63FE-4980-B88E-11E3EDF6A8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C686-2B97-47E2-803B-2E501EE9A8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se Ahmad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ste es mi Nuevo la casa es estupendo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cocina es boni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bano muy gran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sala fabulo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comed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55Z</dcterms:created>
  <dc:creator>ahmadijos</dc:creator>
  <dc:description/>
  <dc:language>en-US</dc:language>
  <cp:lastModifiedBy>ahmadijos</cp:lastModifiedBy>
  <dcterms:modified xsi:type="dcterms:W3CDTF">2011-10-25T15:46:25Z</dcterms:modified>
  <cp:revision>6</cp:revision>
  <dc:subject/>
  <dc:title>La Casa</dc:title>
</cp:coreProperties>
</file>